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492-6EC6-4083-A01B-95747D88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66F-CD5C-4165-930C-473334E8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479-D85E-4863-BE60-95425B3B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8C7-F178-4DA2-BB70-622743DC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5845-C52F-4BB0-9CE7-9448244D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FECE-0E53-45D6-A22F-465F99BA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8E86-DE81-47FE-90F3-CD390E18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EEA4-A9BA-424A-A04F-77794CAF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6250-9C96-4EDB-AA7E-72A96720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570C-649A-4613-B6DF-BDB31B4B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22CE-16BD-4E3D-8B81-6DF1379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289-931F-421C-A441-1CB15343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3EE-F7F9-4A21-8101-9158E66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3B34-60C8-41A5-99E8-0A9113A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B88A-E264-4942-A3ED-BAAB833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9AC6-874F-406D-9A4D-41F7CCCF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72FC-976D-486F-B5CD-3DE7C172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152-A6F9-4D48-A560-34949A50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3EB-799F-47BF-8950-9DC4F381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F23-5AAC-4EB9-9D02-648E5067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95B-842C-4E56-947E-4C5FC4F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6C6-0407-4010-BA87-7D9154F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802-9AFC-4B27-BFC6-6FFCDD8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CB9-869C-4231-A22C-09EBDDF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3E0-B9CB-48C8-9CA7-6316109EB691}" type="slidenum"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" descr="titlemaster_med"/>
          <p:cNvPicPr/>
          <p:nvPr/>
        </p:nvPicPr>
        <p:blipFill>
          <a:blip r:embed="rId4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CCE6-B50E-4CD2-A5CC-106591562850}" type="slidenum"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333333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Historical Development of an Atom</a:t>
            </a:r>
            <a:endParaRPr b="0" lang="en-US" sz="5400" spc="-1" strike="noStrike">
              <a:solidFill>
                <a:srgbClr val="fff4c3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Niels Bohr 1913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els Bohr improve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utherford’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proposed that electrons move around the nucleu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pecific layer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she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 atom has a specific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 she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Niels Bohr 1913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move in orbits arou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nergy level =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nergy leve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nergy level = 18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evel = 32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Niels Bohr 1913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ns orbit the positive nucleus on energy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4" descr="http://t1.gstatic.com/images?q=tbn:ANd9GcQPRy_b6UHLiaDkEsgJzF_vUL1yn2mcjzUD5a3fSuywHCwlMYQ&amp;t=1&amp;usg=__1gh2vHHII44RtfdNjk6yWmTJbhw="/>
          <p:cNvPicPr/>
          <p:nvPr/>
        </p:nvPicPr>
        <p:blipFill>
          <a:blip r:embed="rId1"/>
          <a:stretch/>
        </p:blipFill>
        <p:spPr>
          <a:xfrm>
            <a:off x="3962520" y="2362320"/>
            <a:ext cx="23572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win Schrödinger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lectron Cloud Model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1925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9807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o not follow fixed orbits, but tend to occur more frequently in certain areas around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impossible to know where an electron is at any given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win Schrödinger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lectron Cloud Model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1925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9018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ns are located in clou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9" descr="Go to fullsize image"/>
          <p:cNvPicPr/>
          <p:nvPr/>
        </p:nvPicPr>
        <p:blipFill>
          <a:blip r:embed="rId1"/>
          <a:stretch/>
        </p:blipFill>
        <p:spPr>
          <a:xfrm>
            <a:off x="4876920" y="2666880"/>
            <a:ext cx="228600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ames Chadwick 1932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dwick discover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worked with Rutherford and discovered particles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o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called those particles 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found in the nucleus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ames Chadwick 1932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ns orbit the positive nucleus which contains protons and neutr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4" descr="http://wiki.one-school.net/images/thumb/d/d4/ChadwicksModel.png/400px-ChadwicksModel.png"/>
          <p:cNvPicPr/>
          <p:nvPr/>
        </p:nvPicPr>
        <p:blipFill>
          <a:blip r:embed="rId1"/>
          <a:stretch/>
        </p:blipFill>
        <p:spPr>
          <a:xfrm>
            <a:off x="3200400" y="2514600"/>
            <a:ext cx="380988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Democritus 460 B.C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critus w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Greek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ilosopher who is the father of modern atomic though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 proposed that matt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ould NOT be divid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to smaller pieces forever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 believed that matter was made of small, hard, particles, that he call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atomo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C:\Documents and Settings\vmhoey\Local Settings\Temporary Internet Files\Content.IE5\EY3IF2L9\MC900353612[1].wmf"/>
          <p:cNvPicPr/>
          <p:nvPr/>
        </p:nvPicPr>
        <p:blipFill>
          <a:blip r:embed="rId1"/>
          <a:stretch/>
        </p:blipFill>
        <p:spPr>
          <a:xfrm>
            <a:off x="7772400" y="380880"/>
            <a:ext cx="9208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ohn Dalton 1807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114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 built upon Democritus’s atomic the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tter is made up of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ato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toms cannot be divided in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smaller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piec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the atoms of a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element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re exactly the s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fferent elements hav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ifferen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kinds of ato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ounds form by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combining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to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ohn Dalton 1807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id throughou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me through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Oval 5"/>
          <p:cNvSpPr/>
          <p:nvPr/>
        </p:nvSpPr>
        <p:spPr>
          <a:xfrm>
            <a:off x="4114800" y="3657600"/>
            <a:ext cx="3276720" cy="2741760"/>
          </a:xfrm>
          <a:prstGeom prst="ellipse">
            <a:avLst/>
          </a:prstGeom>
          <a:solidFill>
            <a:srgbClr val="c892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.J. Thomson 1898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icl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malle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 the atom ex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over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hich is negatively char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atoms have negative particles, then atoms must also ha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sitiv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artic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.J. Thomson 1898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e and negative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http://demo.classontheweb.com/TNMatric/ClassXII/images/ThomsonAtomModel.jpg"/>
          <p:cNvPicPr/>
          <p:nvPr/>
        </p:nvPicPr>
        <p:blipFill>
          <a:blip r:embed="rId1"/>
          <a:stretch/>
        </p:blipFill>
        <p:spPr>
          <a:xfrm>
            <a:off x="3733920" y="2590920"/>
            <a:ext cx="3276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nest Rutherford 1911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37920" y="15998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therford perform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gold foi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xperi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his experiment a radio active beam emitted (+) alpha particles toward gold foi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particles went through, som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flect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oth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bounc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ac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showed that atoms have a very dense (+) c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nest Rutherford 1911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therford showed that atoms have (+) particles in the center and are most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mp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p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called the center of the atom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ucle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an atom and its positive charge are located in the nucle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nest Rutherford 1911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e nucl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gative particles surround nucl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8" descr="http://t3.gstatic.com/images?q=tbn:ANd9GcTgrD1j-IBUDbdVr38IZo8q7EFyhZL2q2rKNdsFPHvnwl3iv48&amp;t=1&amp;usg=__LRymzpuCoJCrSY7irOwMbTKtnd0="/>
          <p:cNvPicPr/>
          <p:nvPr/>
        </p:nvPicPr>
        <p:blipFill>
          <a:blip r:embed="rId1"/>
          <a:stretch/>
        </p:blipFill>
        <p:spPr>
          <a:xfrm>
            <a:off x="4876920" y="220968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42:31Z</dcterms:created>
  <dc:creator>Gabrielle N. Walton</dc:creator>
  <dc:description/>
  <dc:language>en-US</dc:language>
  <cp:lastModifiedBy>James Scheuer</cp:lastModifiedBy>
  <dcterms:modified xsi:type="dcterms:W3CDTF">2016-11-14T13:59:46Z</dcterms:modified>
  <cp:revision>56</cp:revision>
  <dc:subject/>
  <dc:title>Historical Development of an Atom</dc:title>
</cp:coreProperties>
</file>